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18F-6E7E-4AE7-884A-E9240C5C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DD5-BCBB-48B4-BA44-CBDF23D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1BC-4763-4EFB-8783-A1E5853C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15F-C5BE-4B84-BD15-69273C2A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485-EC66-40B0-B67F-E9AECA3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180-87A3-421D-A80E-1A83002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A2B-5E29-4935-8747-9B293FF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1FD-5284-407C-8279-B6C90B63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5F0-3705-49F4-B838-7A52E26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9F6-D262-4520-9609-2A2FFF3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6DF-F1F7-497A-8364-2D0CE029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5BE-4820-4520-9A0F-03AC570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11FE-6BA6-4471-801F-C2834B15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74;&#1077;&#1089;&#1085;&#1072;/&#1060;&#1077;&#1076;&#1086;&#1088;%20&#1058;&#1102;&#1090;&#1095;&#1077;&#1074;_&#1047;&#1080;&#1084;&#1072;%20&#1085;&#1077;&#1076;&#1072;&#1088;&#1086;&#1084;%20&#1079;&#1083;&#1080;&#1090;&#1089;&#1103;.doc" TargetMode="External"/><Relationship Id="rId2" Type="http://schemas.openxmlformats.org/officeDocument/2006/relationships/hyperlink" Target="file:///&#1074;&#1077;&#1089;&#1085;&#1072;/&#1040;&#1083;&#1077;&#1082;&#1089;&#1077;&#1081;%20&#1055;&#1083;&#1077;&#1097;&#1077;&#1077;_&#1058;&#1088;&#1072;&#1074;&#1082;&#1072;%20&#1079;&#1077;&#1083;&#1077;&#1085;&#1077;&#1077;&#1090;.doc" TargetMode="External"/><Relationship Id="rId3" Type="http://schemas.openxmlformats.org/officeDocument/2006/relationships/hyperlink" Target="file:///&#1074;&#1077;&#1089;&#1085;&#1072;/&#1040;&#1083;&#1077;&#1082;&#1089;&#1077;&#1081;%20&#1055;&#1083;&#1077;&#1097;&#1077;&#1077;&#1074;_&#1059;&#1078;%20&#1090;&#1072;&#1077;&#1090;%20&#1089;&#1085;&#1077;&#1075;.doc" TargetMode="Externa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83;&#1077;&#1090;&#1086;/&#1057;&#1072;&#1096;&#1072;%20&#1063;&#1077;&#1088;&#1085;&#1099;&#1081;_&#1051;&#1045;&#1058;&#1054;&#1052;.doc" TargetMode="External"/><Relationship Id="rId2" Type="http://schemas.openxmlformats.org/officeDocument/2006/relationships/hyperlink" Target="file:///&#1083;&#1077;&#1090;&#1086;/&#1052;&#1080;&#1093;&#1072;&#1083;&#1082;&#1086;&#1074;&#1089;&#1082;&#1080;&#1081;_&#1062;&#1042;&#1045;&#1058;&#1054;&#1050;.doc" TargetMode="External"/><Relationship Id="rId3" Type="http://schemas.openxmlformats.org/officeDocument/2006/relationships/hyperlink" Target="file:///&#1083;&#1077;&#1090;&#1086;/&#1052;&#1080;&#1093;&#1072;&#1083;&#1082;&#1086;&#1074;&#1089;&#1082;&#1080;&#1081;_&#1062;&#1042;&#1045;&#1058;&#1054;&#1050;.doc" TargetMode="External"/><Relationship Id="rId4" Type="http://schemas.openxmlformats.org/officeDocument/2006/relationships/hyperlink" Target="file:///&#1083;&#1077;&#1090;&#1086;/&#1052;&#1080;&#1093;&#1072;&#1083;&#1082;&#1086;&#1074;&#1089;&#1082;&#1080;&#1081;_&#1062;&#1042;&#1045;&#1058;&#1054;&#1050;.doc" TargetMode="External"/><Relationship Id="rId5" Type="http://schemas.openxmlformats.org/officeDocument/2006/relationships/hyperlink" Target="file:///&#1083;&#1077;&#1090;&#1086;/&#1050;&#1086;&#1088;&#1095;&#1072;&#1075;&#1080;&#1085;&#1072;_&#1051;&#1077;&#1090;&#1086;.doc" TargetMode="Externa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86;&#1089;&#1077;&#1085;&#1100;/&#1041;&#1072;&#1083;&#1100;&#1084;&#1086;&#1085;&#1090;_&#1054;&#1089;&#1077;&#1085;&#1100;.doc" TargetMode="External"/><Relationship Id="rId2" Type="http://schemas.openxmlformats.org/officeDocument/2006/relationships/hyperlink" Target="file:///&#1086;&#1089;&#1077;&#1085;&#1100;/&#1048;&#1074;&#1072;&#1085;%20&#1041;&#1091;&#1085;&#1080;&#1085;_&#1051;&#1080;&#1089;&#1090;&#1086;&#1087;&#1072;&#1076;.doc" TargetMode="External"/><Relationship Id="rId3" Type="http://schemas.openxmlformats.org/officeDocument/2006/relationships/hyperlink" Target="file:///&#1086;&#1089;&#1077;&#1085;&#1100;/&#1055;&#1083;&#1077;&#1097;&#1077;&#1077;&#1074;_&#1054;&#1089;&#1077;&#1085;&#1100;.doc" TargetMode="Externa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79;&#1080;&#1084;&#1072;/&#1052;&#1077;&#1083;&#1100;&#1085;&#1080;&#1082;&#1086;&#1074;_&#1057;&#1085;&#1077;&#1078;&#1080;&#1085;&#1082;&#1080;.doc" TargetMode="External"/><Relationship Id="rId2" Type="http://schemas.openxmlformats.org/officeDocument/2006/relationships/hyperlink" Target="file:///&#1079;&#1080;&#1084;&#1072;/&#1042;&#1080;&#1085;&#1086;&#1082;&#1091;&#1088;&#1086;&#1074;_&#1057;&#1085;&#1077;&#1075;&#1086;&#1087;&#1072;&#1076;.doc" TargetMode="External"/><Relationship Id="rId3" Type="http://schemas.openxmlformats.org/officeDocument/2006/relationships/hyperlink" Target="file:///&#1079;&#1080;&#1084;&#1072;/&#1042;&#1080;&#1085;&#1086;&#1082;&#1091;&#1088;&#1086;&#1074;_&#1057;&#1085;&#1077;&#1075;&#1086;&#1087;&#1072;&#1076;.doc" TargetMode="External"/><Relationship Id="rId4" Type="http://schemas.openxmlformats.org/officeDocument/2006/relationships/hyperlink" Target="file:///&#1079;&#1080;&#1084;&#1072;/&#1045;&#1089;&#1077;&#1085;&#1080;&#1085;%20_&#1041;&#1077;&#1088;&#1105;&#1079;&#1072;.doc" TargetMode="External"/><Relationship Id="rId5" Type="http://schemas.openxmlformats.org/officeDocument/2006/relationships/hyperlink" Target="file:///&#1079;&#1080;&#1084;&#1072;/&#1045;&#1089;&#1077;&#1085;&#1080;&#1085;%20_&#1041;&#1077;&#1088;&#1105;&#1079;&#1072;.doc" TargetMode="Externa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2362320"/>
            <a:ext cx="7010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66ccff"/>
                    </a:gs>
                  </a:gsLst>
                  <a:lin ang="13500000"/>
                </a:gradFill>
                <a:latin typeface="Arial"/>
              </a:rPr>
              <a:t>ВРЕМЕНА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66cc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03680" y="3336840"/>
            <a:ext cx="4496040" cy="3521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2478" t="3321" r="2760" b="3970"/>
          <a:stretch/>
        </p:blipFill>
        <p:spPr>
          <a:xfrm>
            <a:off x="73080" y="28440"/>
            <a:ext cx="4471920" cy="325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27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0240" y="3338640"/>
            <a:ext cx="4495680" cy="3504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122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23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25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bdings"/>
                <a:ea typeface="Webdings"/>
              </a:rPr>
              <a:t>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дор Тютчев. Зима недаром зл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bdings"/>
                <a:ea typeface="Webdings"/>
              </a:rPr>
              <a:t>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ексей Плещеев. Травка зеле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Webdings"/>
                <a:ea typeface="Webdings"/>
              </a:rPr>
              <a:t>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ексей Плещеев. Уж тает снег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31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20609400">
            <a:off x="0" y="1066320"/>
            <a:ext cx="3962520" cy="3581640"/>
          </a:xfrm>
          <a:custGeom>
            <a:avLst/>
            <a:gdLst>
              <a:gd name="textAreaLeft" fmla="*/ 904320 w 3962520"/>
              <a:gd name="textAreaRight" fmla="*/ 3058200 w 3962520"/>
              <a:gd name="textAreaTop" fmla="*/ 817560 h 3581640"/>
              <a:gd name="textAreaBottom" fmla="*/ 27640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6390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Она приходит с ласкою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 со своею сказкою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олшебной палочкой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змахнет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лесу подснежник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Расцвет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327000">
            <a:off x="4190760" y="9144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5076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Шагает красав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егко земли касается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т на поле, на реку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 по снежку, и по цветк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609400">
            <a:off x="5181120" y="3276360"/>
            <a:ext cx="3962520" cy="3581280"/>
          </a:xfrm>
          <a:custGeom>
            <a:avLst/>
            <a:gdLst>
              <a:gd name="textAreaLeft" fmla="*/ 904320 w 3962520"/>
              <a:gd name="textAreaRight" fmla="*/ 3058200 w 396252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6390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Рыхлый снег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олнце тает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етерок в ветвях играет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Звонче птичьи голоса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Значит, к нам пришла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71800">
            <a:off x="1828440" y="3276720"/>
            <a:ext cx="3962520" cy="3581280"/>
          </a:xfrm>
          <a:custGeom>
            <a:avLst/>
            <a:gdLst>
              <a:gd name="textAreaLeft" fmla="*/ 904320 w 3962520"/>
              <a:gd name="textAreaRight" fmla="*/ 3058200 w 396252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5130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Я раскрываю по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зелёные листочки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ревья одева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севы поливаю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вижения пол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зовут меня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38280" y="304920"/>
            <a:ext cx="472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ВЕСНА</a:t>
            </a:r>
            <a:endParaRPr b="0" lang="en-US" sz="1800" spc="1" strike="noStrike">
              <a:ln w="158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43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17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080" y="44280"/>
            <a:ext cx="4419720" cy="3314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3394080"/>
            <a:ext cx="4537080" cy="3463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9840" y="3397320"/>
            <a:ext cx="4457880" cy="346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2362320" y="2971800"/>
            <a:ext cx="472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58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ff33"/>
                    </a:gs>
                  </a:gsLst>
                  <a:lin ang="13500000"/>
                </a:gradFill>
                <a:latin typeface="Arial"/>
              </a:rPr>
              <a:t>ЛЕТО</a:t>
            </a:r>
            <a:endParaRPr b="0" lang="en-US" sz="4400" spc="1" strike="noStrike">
              <a:ln w="158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ff33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55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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. Орлов. Что подарит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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аша Черный. Л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.Л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халковский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 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. Корчагина.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63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65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0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38280" y="228600"/>
            <a:ext cx="472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58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Arial"/>
              </a:rPr>
              <a:t>ЛЕТО</a:t>
            </a:r>
            <a:endParaRPr b="0" lang="en-US" sz="4400" spc="1" strike="noStrike">
              <a:ln w="158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99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 rot="20948400">
            <a:off x="304920" y="1676520"/>
            <a:ext cx="3352680" cy="3200400"/>
          </a:xfrm>
          <a:custGeom>
            <a:avLst/>
            <a:gdLst>
              <a:gd name="textAreaLeft" fmla="*/ 992520 w 3352680"/>
              <a:gd name="textAreaRight" fmla="*/ 2360160 w 3352680"/>
              <a:gd name="textAreaTop" fmla="*/ 947520 h 3200400"/>
              <a:gd name="textAreaBottom" fmla="*/ 22528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96" y="6396"/>
                </a:lnTo>
                <a:lnTo>
                  <a:pt x="10800" y="0"/>
                </a:lnTo>
                <a:lnTo>
                  <a:pt x="15204" y="6396"/>
                </a:lnTo>
                <a:lnTo>
                  <a:pt x="21600" y="10800"/>
                </a:lnTo>
                <a:lnTo>
                  <a:pt x="15204" y="15204"/>
                </a:lnTo>
                <a:lnTo>
                  <a:pt x="10800" y="21600"/>
                </a:lnTo>
                <a:lnTo>
                  <a:pt x="6396" y="152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4154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Зеленеют луга,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В небе - радуга-дуга.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Солнцем озеро согрето: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Всех зовёт купаться ..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427800">
            <a:off x="4038120" y="1371600"/>
            <a:ext cx="3353040" cy="3200400"/>
          </a:xfrm>
          <a:custGeom>
            <a:avLst/>
            <a:gdLst>
              <a:gd name="textAreaLeft" fmla="*/ 992880 w 3353040"/>
              <a:gd name="textAreaRight" fmla="*/ 2360160 w 3353040"/>
              <a:gd name="textAreaTop" fmla="*/ 947520 h 3200400"/>
              <a:gd name="textAreaBottom" fmla="*/ 22528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96" y="6396"/>
                </a:lnTo>
                <a:lnTo>
                  <a:pt x="10800" y="0"/>
                </a:lnTo>
                <a:lnTo>
                  <a:pt x="15204" y="6396"/>
                </a:lnTo>
                <a:lnTo>
                  <a:pt x="21600" y="10800"/>
                </a:lnTo>
                <a:lnTo>
                  <a:pt x="15204" y="15204"/>
                </a:lnTo>
                <a:lnTo>
                  <a:pt x="10800" y="21600"/>
                </a:lnTo>
                <a:lnTo>
                  <a:pt x="6396" y="152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3674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олнце печё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липа цветёт.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Рожь поспе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Когда это бывает?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532600">
            <a:off x="1981080" y="3428640"/>
            <a:ext cx="3353040" cy="3200400"/>
          </a:xfrm>
          <a:custGeom>
            <a:avLst/>
            <a:gdLst>
              <a:gd name="textAreaLeft" fmla="*/ 992880 w 3353040"/>
              <a:gd name="textAreaRight" fmla="*/ 2360160 w 3353040"/>
              <a:gd name="textAreaTop" fmla="*/ 947520 h 3200400"/>
              <a:gd name="textAreaBottom" fmla="*/ 22528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96" y="6396"/>
                </a:lnTo>
                <a:lnTo>
                  <a:pt x="10800" y="0"/>
                </a:lnTo>
                <a:lnTo>
                  <a:pt x="15204" y="6396"/>
                </a:lnTo>
                <a:lnTo>
                  <a:pt x="21600" y="10800"/>
                </a:lnTo>
                <a:lnTo>
                  <a:pt x="15204" y="15204"/>
                </a:lnTo>
                <a:lnTo>
                  <a:pt x="10800" y="21600"/>
                </a:lnTo>
                <a:lnTo>
                  <a:pt x="6396" y="152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4568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Я соткано из зно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несу тепло с собою,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Я реки согрева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"купайтесь!"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приглаша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321600">
            <a:off x="5638680" y="3428640"/>
            <a:ext cx="3353040" cy="3200400"/>
          </a:xfrm>
          <a:custGeom>
            <a:avLst/>
            <a:gdLst>
              <a:gd name="textAreaLeft" fmla="*/ 921240 w 3353040"/>
              <a:gd name="textAreaRight" fmla="*/ 2431800 w 3353040"/>
              <a:gd name="textAreaTop" fmla="*/ 879120 h 3200400"/>
              <a:gd name="textAreaBottom" fmla="*/ 23212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35" y="5935"/>
                </a:lnTo>
                <a:lnTo>
                  <a:pt x="10800" y="0"/>
                </a:lnTo>
                <a:lnTo>
                  <a:pt x="15665" y="5935"/>
                </a:lnTo>
                <a:lnTo>
                  <a:pt x="21600" y="10800"/>
                </a:lnTo>
                <a:lnTo>
                  <a:pt x="15665" y="15665"/>
                </a:lnTo>
                <a:lnTo>
                  <a:pt x="10800" y="21600"/>
                </a:lnTo>
                <a:lnTo>
                  <a:pt x="5935" y="1566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3176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В щедром п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колосится 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Золотистая пшеница. 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Ягоды в лесу поспели, 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Пчелы прячут ме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по келья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75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19520" y="3352680"/>
            <a:ext cx="4496040" cy="34164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080" y="3352680"/>
            <a:ext cx="4525920" cy="34513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680000" y="44280"/>
            <a:ext cx="4419720" cy="32943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0240" y="30240"/>
            <a:ext cx="4610160" cy="32828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85" name=""/>
          <p:cNvSpPr txBox="1"/>
          <p:nvPr/>
        </p:nvSpPr>
        <p:spPr>
          <a:xfrm>
            <a:off x="2590920" y="2822400"/>
            <a:ext cx="472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13500000"/>
                </a:gradFill>
                <a:latin typeface="Arial"/>
              </a:rPr>
              <a:t>ОСЕНЬ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87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89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eb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стантин Бальмонт. 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eb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ван Бунин. Листопа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eb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ексей Плещеев. 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67960" y="6262560"/>
            <a:ext cx="5974920" cy="404640"/>
            <a:chOff x="1767960" y="6262560"/>
            <a:chExt cx="5974920" cy="404640"/>
          </a:xfrm>
        </p:grpSpPr>
        <p:sp>
          <p:nvSpPr>
            <p:cNvPr id="195" name=""/>
            <p:cNvSpPr/>
            <p:nvPr/>
          </p:nvSpPr>
          <p:spPr>
            <a:xfrm>
              <a:off x="6765120" y="629892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767960" y="6262560"/>
              <a:ext cx="3817800" cy="368280"/>
              <a:chOff x="1767960" y="6262560"/>
              <a:chExt cx="3817800" cy="368280"/>
            </a:xfrm>
          </p:grpSpPr>
          <p:sp>
            <p:nvSpPr>
              <p:cNvPr id="197" name=""/>
              <p:cNvSpPr/>
              <p:nvPr/>
            </p:nvSpPr>
            <p:spPr>
              <a:xfrm>
                <a:off x="1767960" y="62625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83800" y="626256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45880" y="626256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40480" y="626256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rot="20551200">
            <a:off x="533520" y="1676520"/>
            <a:ext cx="3433680" cy="2766960"/>
          </a:xfrm>
          <a:custGeom>
            <a:avLst/>
            <a:gdLst>
              <a:gd name="textAreaLeft" fmla="*/ 806760 w 3433680"/>
              <a:gd name="textAreaRight" fmla="*/ 2624400 w 3433680"/>
              <a:gd name="textAreaTop" fmla="*/ 325080 h 2766960"/>
              <a:gd name="textAreaBottom" fmla="*/ 1735560 h 2766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645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тром мы во двор идём -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Листья сыплются дождём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од ногами шелестят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И летят, летят, летя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122600">
            <a:off x="1828800" y="3352320"/>
            <a:ext cx="3433680" cy="2766960"/>
          </a:xfrm>
          <a:custGeom>
            <a:avLst/>
            <a:gdLst>
              <a:gd name="textAreaLeft" fmla="*/ 806760 w 3433680"/>
              <a:gd name="textAreaRight" fmla="*/ 2624400 w 3433680"/>
              <a:gd name="textAreaTop" fmla="*/ 325080 h 2766960"/>
              <a:gd name="textAreaBottom" fmla="*/ 1735560 h 2766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4278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ришла без кра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и без ки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А перекра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се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343200">
            <a:off x="3657600" y="1447920"/>
            <a:ext cx="3433680" cy="2766960"/>
          </a:xfrm>
          <a:custGeom>
            <a:avLst/>
            <a:gdLst>
              <a:gd name="textAreaLeft" fmla="*/ 806760 w 3433680"/>
              <a:gd name="textAreaRight" fmla="*/ 2624400 w 3433680"/>
              <a:gd name="textAreaTop" fmla="*/ 325080 h 2766960"/>
              <a:gd name="textAreaBottom" fmla="*/ 1735560 h 2766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058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Листья падают с осин,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Мчится в н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острый кл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828800">
            <a:off x="5257440" y="3047760"/>
            <a:ext cx="3433680" cy="2766960"/>
          </a:xfrm>
          <a:custGeom>
            <a:avLst/>
            <a:gdLst>
              <a:gd name="textAreaLeft" fmla="*/ 806760 w 3433680"/>
              <a:gd name="textAreaRight" fmla="*/ 2624400 w 3433680"/>
              <a:gd name="textAreaTop" fmla="*/ 325080 h 2766960"/>
              <a:gd name="textAreaBottom" fmla="*/ 1735560 h 2766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3570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амое  хмурое время  года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Хочется домой, -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Скоро сонная природа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стретится с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438280" y="304920"/>
            <a:ext cx="472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cc3300"/>
                    </a:gs>
                  </a:gsLst>
                  <a:lin ang="13500000"/>
                </a:gradFill>
                <a:latin typeface="Arial"/>
              </a:rPr>
              <a:t>ОСЕНЬ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cc33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207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6120" y="1600200"/>
            <a:ext cx="33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ccff"/>
                </a:solidFill>
                <a:latin typeface="Monotype Corsiva"/>
              </a:rPr>
              <a:t>ЗИ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523880"/>
            <a:ext cx="38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cc00"/>
                </a:solidFill>
                <a:latin typeface="Monotype Corsiva"/>
              </a:rPr>
              <a:t>ВЕС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9625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Monotype Corsiva"/>
              </a:rPr>
              <a:t>ЛЕТ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96252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Monotype Corsiva"/>
              </a:rPr>
              <a:t>ОСЕН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788400">
            <a:off x="1218960" y="2133720"/>
            <a:ext cx="2057400" cy="198108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2714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733920"/>
            <a:ext cx="2057400" cy="198108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15800">
            <a:off x="6019560" y="2057400"/>
            <a:ext cx="2057400" cy="198108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4886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52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54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20609400">
            <a:off x="1218960" y="2209320"/>
            <a:ext cx="1904760" cy="175284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99960 h 1752840"/>
              <a:gd name="textAreaBottom" fmla="*/ 135288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6390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114800"/>
            <a:ext cx="1905120" cy="175248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ffcccc"/>
              </a:gs>
            </a:gsLst>
            <a:lin ang="5400000"/>
          </a:gra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59000">
            <a:off x="6171840" y="2285640"/>
            <a:ext cx="1905120" cy="175248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11544000"/>
          </a:gra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62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64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1981080"/>
            <a:ext cx="2438280" cy="2057400"/>
          </a:xfrm>
          <a:custGeom>
            <a:avLst/>
            <a:gdLst>
              <a:gd name="textAreaLeft" fmla="*/ 871560 w 2438280"/>
              <a:gd name="textAreaRight" fmla="*/ 1566720 w 2438280"/>
              <a:gd name="textAreaTop" fmla="*/ 735480 h 2057400"/>
              <a:gd name="textAreaBottom" fmla="*/ 13219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23" y="7723"/>
                </a:lnTo>
                <a:lnTo>
                  <a:pt x="10800" y="0"/>
                </a:lnTo>
                <a:lnTo>
                  <a:pt x="13877" y="7723"/>
                </a:lnTo>
                <a:lnTo>
                  <a:pt x="21600" y="10800"/>
                </a:lnTo>
                <a:lnTo>
                  <a:pt x="13877" y="13877"/>
                </a:lnTo>
                <a:lnTo>
                  <a:pt x="10800" y="21600"/>
                </a:lnTo>
                <a:lnTo>
                  <a:pt x="7723" y="1387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4038480"/>
            <a:ext cx="2438640" cy="2057400"/>
          </a:xfrm>
          <a:custGeom>
            <a:avLst/>
            <a:gdLst>
              <a:gd name="textAreaLeft" fmla="*/ 871920 w 2438640"/>
              <a:gd name="textAreaRight" fmla="*/ 1566720 w 2438640"/>
              <a:gd name="textAreaTop" fmla="*/ 735480 h 2057400"/>
              <a:gd name="textAreaBottom" fmla="*/ 13219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23" y="7723"/>
                </a:lnTo>
                <a:lnTo>
                  <a:pt x="10800" y="0"/>
                </a:lnTo>
                <a:lnTo>
                  <a:pt x="13877" y="7723"/>
                </a:lnTo>
                <a:lnTo>
                  <a:pt x="21600" y="10800"/>
                </a:lnTo>
                <a:lnTo>
                  <a:pt x="13877" y="13877"/>
                </a:lnTo>
                <a:lnTo>
                  <a:pt x="10800" y="21600"/>
                </a:lnTo>
                <a:lnTo>
                  <a:pt x="7723" y="1387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2286000"/>
            <a:ext cx="2438280" cy="2057400"/>
          </a:xfrm>
          <a:custGeom>
            <a:avLst/>
            <a:gdLst>
              <a:gd name="textAreaLeft" fmla="*/ 871560 w 2438280"/>
              <a:gd name="textAreaRight" fmla="*/ 1566720 w 2438280"/>
              <a:gd name="textAreaTop" fmla="*/ 735480 h 2057400"/>
              <a:gd name="textAreaBottom" fmla="*/ 13219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723" y="7723"/>
                </a:lnTo>
                <a:lnTo>
                  <a:pt x="10800" y="0"/>
                </a:lnTo>
                <a:lnTo>
                  <a:pt x="13877" y="7723"/>
                </a:lnTo>
                <a:lnTo>
                  <a:pt x="21600" y="10800"/>
                </a:lnTo>
                <a:lnTo>
                  <a:pt x="13877" y="13877"/>
                </a:lnTo>
                <a:lnTo>
                  <a:pt x="10800" y="21600"/>
                </a:lnTo>
                <a:lnTo>
                  <a:pt x="7723" y="1387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ccffcc"/>
              </a:gs>
            </a:gsLst>
            <a:lin ang="135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72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74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rot="20044200">
            <a:off x="1212840" y="2719440"/>
            <a:ext cx="1905120" cy="1600200"/>
          </a:xfrm>
          <a:custGeom>
            <a:avLst/>
            <a:gdLst>
              <a:gd name="textAreaLeft" fmla="*/ 447480 w 1905120"/>
              <a:gd name="textAreaRight" fmla="*/ 1456200 w 19051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6954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831600">
            <a:off x="3824280" y="4219560"/>
            <a:ext cx="1905120" cy="1676520"/>
          </a:xfrm>
          <a:custGeom>
            <a:avLst/>
            <a:gdLst>
              <a:gd name="textAreaLeft" fmla="*/ 447480 w 1905120"/>
              <a:gd name="textAreaRight" fmla="*/ 1456200 w 1905120"/>
              <a:gd name="textAreaTop" fmla="*/ 196920 h 1676520"/>
              <a:gd name="textAreaBottom" fmla="*/ 1051560 h 1676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4566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6400">
            <a:off x="6351120" y="2560320"/>
            <a:ext cx="1828800" cy="1676520"/>
          </a:xfrm>
          <a:custGeom>
            <a:avLst/>
            <a:gdLst>
              <a:gd name="textAreaLeft" fmla="*/ 429840 w 1828800"/>
              <a:gd name="textAreaRight" fmla="*/ 1397880 w 1828800"/>
              <a:gd name="textAreaTop" fmla="*/ 196920 h 1676520"/>
              <a:gd name="textAreaBottom" fmla="*/ 1051560 h 1676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3636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53560" y="6171480"/>
            <a:ext cx="5974920" cy="404640"/>
            <a:chOff x="1753560" y="6171480"/>
            <a:chExt cx="5974920" cy="404640"/>
          </a:xfrm>
        </p:grpSpPr>
        <p:sp>
          <p:nvSpPr>
            <p:cNvPr id="82" name=""/>
            <p:cNvSpPr/>
            <p:nvPr/>
          </p:nvSpPr>
          <p:spPr>
            <a:xfrm>
              <a:off x="6750720" y="620784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753560" y="6171480"/>
              <a:ext cx="3817800" cy="368280"/>
              <a:chOff x="1753560" y="6171480"/>
              <a:chExt cx="3817800" cy="368280"/>
            </a:xfrm>
          </p:grpSpPr>
          <p:sp>
            <p:nvSpPr>
              <p:cNvPr id="84" name=""/>
              <p:cNvSpPr/>
              <p:nvPr/>
            </p:nvSpPr>
            <p:spPr>
              <a:xfrm>
                <a:off x="1753560" y="617148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9400" y="617148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31480" y="61714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26080" y="617148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27720" cy="331488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1164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513320" cy="3505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57600" y="3352680"/>
            <a:ext cx="4586400" cy="350532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grpSp>
        <p:nvGrpSpPr>
          <p:cNvPr id="92" name=""/>
          <p:cNvGrpSpPr/>
          <p:nvPr/>
        </p:nvGrpSpPr>
        <p:grpSpPr>
          <a:xfrm>
            <a:off x="1829880" y="6248520"/>
            <a:ext cx="5974920" cy="404640"/>
            <a:chOff x="1829880" y="6248520"/>
            <a:chExt cx="5974920" cy="404640"/>
          </a:xfrm>
        </p:grpSpPr>
        <p:sp>
          <p:nvSpPr>
            <p:cNvPr id="93" name=""/>
            <p:cNvSpPr/>
            <p:nvPr/>
          </p:nvSpPr>
          <p:spPr>
            <a:xfrm>
              <a:off x="682704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829880" y="6248520"/>
              <a:ext cx="3817800" cy="368280"/>
              <a:chOff x="1829880" y="6248520"/>
              <a:chExt cx="3817800" cy="368280"/>
            </a:xfrm>
          </p:grpSpPr>
          <p:sp>
            <p:nvSpPr>
              <p:cNvPr id="95" name=""/>
              <p:cNvSpPr/>
              <p:nvPr/>
            </p:nvSpPr>
            <p:spPr>
              <a:xfrm>
                <a:off x="182988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6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572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0780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80240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Wingdings"/>
                <a:ea typeface="Wingdings"/>
              </a:rPr>
              <a:t>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кадий Мельников. 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Wingdings"/>
                <a:ea typeface="Wingdings"/>
              </a:rPr>
              <a:t>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.Винокуров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 Снего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Wingdings"/>
                <a:ea typeface="Wingdings"/>
              </a:rPr>
              <a:t>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.Есенин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 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01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7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8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9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0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325200">
            <a:off x="533160" y="914040"/>
            <a:ext cx="3916080" cy="3421080"/>
          </a:xfrm>
          <a:custGeom>
            <a:avLst/>
            <a:gdLst>
              <a:gd name="textAreaLeft" fmla="*/ 893880 w 3916080"/>
              <a:gd name="textAreaRight" fmla="*/ 3022200 w 3916080"/>
              <a:gd name="textAreaTop" fmla="*/ 780840 h 3421080"/>
              <a:gd name="textAreaBottom" fmla="*/ 2640240 h 34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176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Кто поляны белит белым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И на стенах пишет мелом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Шьет пуховые перины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Разукрасил все витрины?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836200">
            <a:off x="1295280" y="3123720"/>
            <a:ext cx="3916440" cy="3421080"/>
          </a:xfrm>
          <a:custGeom>
            <a:avLst/>
            <a:gdLst>
              <a:gd name="textAreaLeft" fmla="*/ 893880 w 3916440"/>
              <a:gd name="textAreaRight" fmla="*/ 3022560 w 3916440"/>
              <a:gd name="textAreaTop" fmla="*/ 780840 h 3421080"/>
              <a:gd name="textAreaBottom" fmla="*/ 2640240 h 34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4262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, угадай-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едая хозяйка?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Тряхнула перинки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д миром пушин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325200">
            <a:off x="4723920" y="1066320"/>
            <a:ext cx="3916440" cy="3421080"/>
          </a:xfrm>
          <a:custGeom>
            <a:avLst/>
            <a:gdLst>
              <a:gd name="textAreaLeft" fmla="*/ 893880 w 3916440"/>
              <a:gd name="textAreaRight" fmla="*/ 3022560 w 3916440"/>
              <a:gd name="textAreaTop" fmla="*/ 780840 h 3421080"/>
              <a:gd name="textAreaBottom" fmla="*/ 2640240 h 34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176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оть сама — и снег и лед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А уходит — слезы льет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126600">
            <a:off x="5227200" y="3048120"/>
            <a:ext cx="3916440" cy="3421080"/>
          </a:xfrm>
          <a:custGeom>
            <a:avLst/>
            <a:gdLst>
              <a:gd name="textAreaLeft" fmla="*/ 893880 w 3916440"/>
              <a:gd name="textAreaRight" fmla="*/ 3022560 w 3916440"/>
              <a:gd name="textAreaTop" fmla="*/ 780840 h 3421080"/>
              <a:gd name="textAreaBottom" fmla="*/ 2640240 h 34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974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Наступили холода.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Обернулась в лед вода.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Длинноухий зайка серый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Обернулся зайкой белым.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Перестал медведь реветь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В спячку впал в бору медведь.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Кто скажет, кто знает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Franklin Gothic Book"/>
              </a:rPr>
              <a:t>Когда это бывает?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53560" y="6248520"/>
            <a:ext cx="5974920" cy="404640"/>
            <a:chOff x="1753560" y="6248520"/>
            <a:chExt cx="5974920" cy="404640"/>
          </a:xfrm>
        </p:grpSpPr>
        <p:sp>
          <p:nvSpPr>
            <p:cNvPr id="112" name=""/>
            <p:cNvSpPr/>
            <p:nvPr/>
          </p:nvSpPr>
          <p:spPr>
            <a:xfrm>
              <a:off x="6750720" y="6284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753560" y="6248520"/>
              <a:ext cx="3817800" cy="368280"/>
              <a:chOff x="1753560" y="6248520"/>
              <a:chExt cx="3817800" cy="368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3560" y="624852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2" action="ppaction://hlinksldjump"/>
                  </a:rPr>
                  <a:t>Зи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69400" y="6248520"/>
                <a:ext cx="82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3" action="ppaction://hlinksldjump"/>
                  </a:rPr>
                  <a:t>Вес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31480" y="624852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4" action="ppaction://hlinksldjump"/>
                  </a:rPr>
                  <a:t>Лет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26080" y="6248520"/>
                <a:ext cx="84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5" action="ppaction://hlinksldjump"/>
                  </a:rPr>
                  <a:t>Осен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kaeva</cp:lastModifiedBy>
  <dcterms:modified xsi:type="dcterms:W3CDTF">2010-11-24T08:42:3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